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EF63-60B2-4578-9A58-A57F0A593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F59C-978E-4AAF-A6AB-EE572413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DA9B-E3D8-42BB-8A6A-03998B78F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89F5-B5ED-4025-896C-E3CBAF9CA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F3527-838A-40EA-90B5-56E5D0857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DE74-5484-471E-9DD3-9FC2B220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A9FA-869D-4E36-B4FC-8F223D57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1084-79E7-4726-8DBA-8129EEC4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A8D2-D810-4E94-8F22-20C659D5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D894-1AAE-45F4-B804-8977C6BC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F3719-D415-4420-9F62-F5B4EDD5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1BE5-CF0E-4EBE-8A75-9D04D39C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DA01-E829-45DF-B98E-42E190B3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1FCC-84FE-4AAC-91AC-5715F472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15326-1E9B-4766-A019-17221197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DA1B-F323-43A0-9CA7-754941BB3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CDCF-91AE-40B2-B626-AF77DC1B1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500A-BFC8-4D95-B98C-D1BF41E8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F7B5-5309-4BAA-A1EA-2EC8A5C4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3E78-D85F-4571-9F70-066BF611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76A5-7FAF-486F-90CD-DA2DBD5A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73A2-CDEC-4BAA-915D-E1D77197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50B0-94B1-475F-92CB-53C6F3B7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5D03-0CF4-40A1-B8DB-A2382A60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82DB-27A9-40B2-A8FF-C582DE1BB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A50F-8E77-45EA-9162-58649E3FB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21304"/>
                </a:solidFill>
                <a:latin typeface="Verdana"/>
              </a:rPr>
              <a:t>Cells &amp; The First Microscopes</a:t>
            </a:r>
            <a:endParaRPr b="0" lang="en-US" sz="6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400" y="3409920"/>
            <a:ext cx="6756120" cy="24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It is a strange story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nd you need to know about a few people.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1785960" y="46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hooke"/>
          <p:cNvPicPr/>
          <p:nvPr/>
        </p:nvPicPr>
        <p:blipFill>
          <a:blip r:embed="rId1"/>
          <a:stretch/>
        </p:blipFill>
        <p:spPr>
          <a:xfrm>
            <a:off x="1954080" y="285840"/>
            <a:ext cx="5561280" cy="6191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bd83"/>
                </a:solidFill>
                <a:latin typeface="Times New Roman"/>
              </a:rPr>
              <a:t>Anton Van Leeuwenhoek</a:t>
            </a:r>
            <a:br>
              <a:rPr sz="4400"/>
            </a:br>
            <a:r>
              <a:rPr b="1" lang="en-US" sz="4400" spc="-1" strike="noStrike">
                <a:solidFill>
                  <a:srgbClr val="cbbd83"/>
                </a:solidFill>
                <a:latin typeface="Times New Roman"/>
              </a:rPr>
              <a:t>1676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3581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 a Dutch “</a:t>
            </a:r>
            <a:r>
              <a:rPr b="0" i="1" lang="en-US" sz="3200" spc="-1" strike="noStrike">
                <a:solidFill>
                  <a:srgbClr val="000000"/>
                </a:solidFill>
                <a:latin typeface="MS Reference Sans Serif"/>
              </a:rPr>
              <a:t>haberdasher</a:t>
            </a:r>
            <a:r>
              <a:rPr b="0" lang="en-US" sz="3200" spc="-1" strike="noStrike">
                <a:solidFill>
                  <a:srgbClr val="000000"/>
                </a:solidFill>
                <a:latin typeface="MS Reference Sans Serif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held model of the micro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d water (single celled anima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od, teeth scrappings (bacter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rm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rs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2819160" cy="25048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4724280" y="2057400"/>
            <a:ext cx="40388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Animalcules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5"/>
          <p:cNvGrpSpPr/>
          <p:nvPr/>
        </p:nvGrpSpPr>
        <p:grpSpPr>
          <a:xfrm>
            <a:off x="588960" y="-266760"/>
            <a:ext cx="7966080" cy="7391520"/>
            <a:chOff x="588960" y="-266760"/>
            <a:chExt cx="7966080" cy="7391520"/>
          </a:xfrm>
        </p:grpSpPr>
        <p:sp>
          <p:nvSpPr>
            <p:cNvPr id="117" name="Rectangle 2"/>
            <p:cNvSpPr/>
            <p:nvPr/>
          </p:nvSpPr>
          <p:spPr>
            <a:xfrm>
              <a:off x="588960" y="-266760"/>
              <a:ext cx="79660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3"/>
            <p:cNvSpPr/>
            <p:nvPr/>
          </p:nvSpPr>
          <p:spPr>
            <a:xfrm>
              <a:off x="588960" y="-266760"/>
              <a:ext cx="6721560" cy="739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455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9" name="Picture 4" descr="Drawing of a sperm"/>
          <p:cNvPicPr/>
          <p:nvPr/>
        </p:nvPicPr>
        <p:blipFill>
          <a:blip r:embed="rId1"/>
          <a:srcRect l="0" t="0" r="0" b="13671"/>
          <a:stretch/>
        </p:blipFill>
        <p:spPr>
          <a:xfrm>
            <a:off x="1257480" y="304920"/>
            <a:ext cx="2857320" cy="62355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120" name="Text Box 6"/>
          <p:cNvSpPr/>
          <p:nvPr/>
        </p:nvSpPr>
        <p:spPr>
          <a:xfrm>
            <a:off x="4952880" y="228600"/>
            <a:ext cx="3810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n Leewenhoek’s concept of a sperm c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8" descr="homunculus"/>
          <p:cNvPicPr/>
          <p:nvPr/>
        </p:nvPicPr>
        <p:blipFill>
          <a:blip r:embed="rId2"/>
          <a:stretch/>
        </p:blipFill>
        <p:spPr>
          <a:xfrm>
            <a:off x="6058080" y="3200400"/>
            <a:ext cx="1485720" cy="33606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4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4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4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027" descr="Click to enlarge"/>
          <p:cNvPicPr/>
          <p:nvPr/>
        </p:nvPicPr>
        <p:blipFill>
          <a:blip r:embed="rId1"/>
          <a:stretch/>
        </p:blipFill>
        <p:spPr>
          <a:xfrm>
            <a:off x="1143000" y="663480"/>
            <a:ext cx="7543800" cy="55850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leeuwenhoek"/>
          <p:cNvPicPr/>
          <p:nvPr/>
        </p:nvPicPr>
        <p:blipFill>
          <a:blip r:embed="rId1"/>
          <a:stretch/>
        </p:blipFill>
        <p:spPr>
          <a:xfrm>
            <a:off x="1676520" y="933480"/>
            <a:ext cx="6340320" cy="33955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124" name="Text Box 4"/>
          <p:cNvSpPr/>
          <p:nvPr/>
        </p:nvSpPr>
        <p:spPr>
          <a:xfrm>
            <a:off x="1371600" y="350532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1981080" y="4343400"/>
            <a:ext cx="601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Even though Leeuwenhoek’s simple microscope used only one tiny lens, it could magnify a specimen up to 266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600200" y="3808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Anton Van Leeuwenhoek – 1676 (Dut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bd83"/>
                </a:solidFill>
                <a:latin typeface="Times New Roman"/>
              </a:rPr>
              <a:t>Theodor Schwann &amp; </a:t>
            </a:r>
            <a:br>
              <a:rPr sz="4400"/>
            </a:br>
            <a:r>
              <a:rPr b="1" lang="en-US" sz="4400" spc="-1" strike="noStrike">
                <a:solidFill>
                  <a:srgbClr val="cbbd83"/>
                </a:solidFill>
                <a:latin typeface="Times New Roman"/>
              </a:rPr>
              <a:t>Matthias Jakob Schleiden</a:t>
            </a: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wann – German zoolog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leiden – German botan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d a theory over din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versation turned on the nuclei of plants and animal ce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6" descr="Image:Schwann Theodore.jpg"/>
          <p:cNvPicPr/>
          <p:nvPr/>
        </p:nvPicPr>
        <p:blipFill>
          <a:blip r:embed="rId1"/>
          <a:stretch/>
        </p:blipFill>
        <p:spPr>
          <a:xfrm>
            <a:off x="4343400" y="3962520"/>
            <a:ext cx="1843200" cy="2552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Image:Matthias Jacob Schleiden.jpg"/>
          <p:cNvPicPr/>
          <p:nvPr/>
        </p:nvPicPr>
        <p:blipFill>
          <a:blip r:embed="rId2"/>
          <a:stretch/>
        </p:blipFill>
        <p:spPr>
          <a:xfrm>
            <a:off x="6324480" y="3962520"/>
            <a:ext cx="22291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486160" y="2100240"/>
          <a:ext cx="207720" cy="51768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51840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2" name="Picture 16" descr="Major events in cell biology &amp; Imaging ----1655 Robert Hooke observes cells of a cork tree through a primitive microscope.--1674 Leewenhoek discovers protozoa.--1683 Leewenhoek discovers bacteria.--1838 Schleiden &amp; Schwann propose the Cell Theory.--1857 Kolliker describes mitochondria in muscle.--1882 Koch uses aniline dyes to identify bacteria causing TB and cholera.--1898 Golgi stains cells with silver nitrate, discovering the Golgi apparatus.--1931 Ruska builds the first transmission electron microscope.--1965 1st. commercial scanning electron microscope.--1997 Sheep &quot;cloned.&quot; "/>
          <p:cNvPicPr/>
          <p:nvPr/>
        </p:nvPicPr>
        <p:blipFill>
          <a:blip r:embed="rId1"/>
          <a:stretch/>
        </p:blipFill>
        <p:spPr>
          <a:xfrm>
            <a:off x="949320" y="1447920"/>
            <a:ext cx="830592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bd83"/>
                </a:solidFill>
                <a:latin typeface="Times New Roman"/>
              </a:rPr>
              <a:t>The Cell Theor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leiden and Schwann proposed the cell theory in 1838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oke, Leeuwenhoek, Virch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Times New Roman"/>
              </a:rPr>
              <a:t>All living things are composed of cell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Times New Roman"/>
              </a:rPr>
              <a:t>Cells are the basic unit of structure and function in living thing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Times New Roman"/>
              </a:rPr>
              <a:t>All arise from pre-existing cells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2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bd83"/>
                </a:solidFill>
                <a:latin typeface="Times New Roman"/>
              </a:rPr>
              <a:t>Classical Cell Theor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organisms are made up of one or more cel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s are the fundamental functional and structural unit of lif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cells come from pre-existing cel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ell is the unit of structure, physiology, and organization in living thing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ell retains a dual existence as a distinct entity and a building block in the construction of organis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s form by free-cell formation, similar to the formation of crystals (spontaneous generation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bd83"/>
                </a:solidFill>
                <a:latin typeface="Times New Roman"/>
              </a:rPr>
              <a:t>Modern Cell Theor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ell is the fundamental unit of structure and function in living thing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cells come from pre-existing cells by divis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flow (metabolism and biochemistry) occurs within cel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s contain hereditary information (DNA) which is passed from cell to cell during cell divi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cells are basically the same in chemical composi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nown living things are made up of cel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organisms are unicellular, i.e., made up of only one cel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 are multi-cellular, composed of a number of cel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ctivity of an organism depends on the total activity of independent cells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bd83"/>
                </a:solidFill>
                <a:latin typeface="Times New Roman"/>
              </a:rPr>
              <a:t>Vitalism</a:t>
            </a: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ily functions are due to a vitalistic principle existing in all living creatures has roots going back at least to ancient Egy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ter existed in two radically different 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organic ma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tor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c ma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cooked“ non-restorab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6" descr="Image:Sanzio 01 Plato Aristotle.jpg"/>
          <p:cNvPicPr/>
          <p:nvPr/>
        </p:nvPicPr>
        <p:blipFill>
          <a:blip r:embed="rId1"/>
          <a:stretch/>
        </p:blipFill>
        <p:spPr>
          <a:xfrm>
            <a:off x="5867280" y="1981080"/>
            <a:ext cx="282276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bd83"/>
                </a:solidFill>
                <a:latin typeface="Times New Roman"/>
              </a:rPr>
              <a:t>Exceptions to the Theor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uses are considered by some to be alive, yet they are not made up of cell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rst cell did not originate from a pre-existing cel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bd83"/>
                </a:solidFill>
                <a:latin typeface="Times New Roman"/>
              </a:rPr>
              <a:t>Types of cell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karyo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karyotes lack a nucleus (though they do have circular DNA) and other membrane-bound organelles (though they do contain ribosome's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teria and Archaea are two divisions of prokaryo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7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2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bd83"/>
                </a:solidFill>
                <a:latin typeface="Times New Roman"/>
              </a:rPr>
              <a:t>Types of cells…con’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ukaryotes, on the other hand, have distinct nuclei and membrane-bound organelle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itochondria, chloroplasts, lysosomes, rough and smooth endoplasmic reticulum, vacuo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, they possess organized chromosomes which store genetic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9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9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janssen"/>
          <p:cNvPicPr/>
          <p:nvPr/>
        </p:nvPicPr>
        <p:blipFill>
          <a:blip r:embed="rId1"/>
          <a:stretch/>
        </p:blipFill>
        <p:spPr>
          <a:xfrm>
            <a:off x="1676520" y="990720"/>
            <a:ext cx="6324480" cy="356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8"/>
          <p:cNvSpPr/>
          <p:nvPr/>
        </p:nvSpPr>
        <p:spPr>
          <a:xfrm>
            <a:off x="838080" y="38088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bd83"/>
                </a:solidFill>
                <a:latin typeface="Times New Roman"/>
              </a:rPr>
              <a:t>Hans &amp; Zacharias Janss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1295280" y="4648320"/>
            <a:ext cx="72392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Dutch eyeglass makers, made one of the first compound microscopes.  Their microscope was simply 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Lucida Sans"/>
              </a:rPr>
              <a:t>TUBE with a LENS AT EACH 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bd83"/>
                </a:solidFill>
                <a:latin typeface="Times New Roman"/>
              </a:rPr>
              <a:t>Robert Hooke – 1665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glish Scientist during the plag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ea, Bees stinger, new pin, razor ed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k …“Boxes” or “Cell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is book-“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Micrographi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ther of the Cell The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living things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made of cell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2924280" y="15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7" descr="Hooke"/>
          <p:cNvPicPr/>
          <p:nvPr/>
        </p:nvPicPr>
        <p:blipFill>
          <a:blip r:embed="rId1"/>
          <a:srcRect l="5560" t="4417" r="5560" b="8834"/>
          <a:stretch/>
        </p:blipFill>
        <p:spPr>
          <a:xfrm>
            <a:off x="5867280" y="2916360"/>
            <a:ext cx="2837160" cy="3484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hooke"/>
          <p:cNvPicPr/>
          <p:nvPr/>
        </p:nvPicPr>
        <p:blipFill>
          <a:blip r:embed="rId1"/>
          <a:stretch/>
        </p:blipFill>
        <p:spPr>
          <a:xfrm>
            <a:off x="1600200" y="1552680"/>
            <a:ext cx="6553080" cy="49244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103" name="Rectangle 6"/>
          <p:cNvSpPr/>
          <p:nvPr/>
        </p:nvSpPr>
        <p:spPr>
          <a:xfrm>
            <a:off x="1066680" y="228600"/>
            <a:ext cx="7543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bd83"/>
                </a:solidFill>
                <a:latin typeface="Times New Roman"/>
              </a:rPr>
              <a:t>Hooke’s microscope made by Christopher Co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[Engraving]"/>
          <p:cNvPicPr/>
          <p:nvPr/>
        </p:nvPicPr>
        <p:blipFill>
          <a:blip r:embed="rId1"/>
          <a:stretch/>
        </p:blipFill>
        <p:spPr>
          <a:xfrm>
            <a:off x="2138400" y="228600"/>
            <a:ext cx="4925880" cy="63244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105" name="Text Box 4"/>
          <p:cNvSpPr/>
          <p:nvPr/>
        </p:nvSpPr>
        <p:spPr>
          <a:xfrm>
            <a:off x="7162920" y="21337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7162920" y="342900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ells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micro1"/>
          <p:cNvPicPr/>
          <p:nvPr/>
        </p:nvPicPr>
        <p:blipFill>
          <a:blip r:embed="rId1"/>
          <a:stretch/>
        </p:blipFill>
        <p:spPr>
          <a:xfrm>
            <a:off x="990720" y="455760"/>
            <a:ext cx="7696080" cy="60213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micrographia_flea.jpg (31601 bytes)"/>
          <p:cNvPicPr/>
          <p:nvPr/>
        </p:nvPicPr>
        <p:blipFill>
          <a:blip r:embed="rId1"/>
          <a:stretch/>
        </p:blipFill>
        <p:spPr>
          <a:xfrm>
            <a:off x="1219320" y="736560"/>
            <a:ext cx="7315200" cy="56167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fly1"/>
          <p:cNvPicPr/>
          <p:nvPr/>
        </p:nvPicPr>
        <p:blipFill>
          <a:blip r:embed="rId1"/>
          <a:stretch/>
        </p:blipFill>
        <p:spPr>
          <a:xfrm>
            <a:off x="1204920" y="1295280"/>
            <a:ext cx="7405560" cy="41515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2T18:55:31Z</dcterms:created>
  <dc:creator>khageman</dc:creator>
  <dc:description/>
  <dc:language>en-US</dc:language>
  <cp:lastModifiedBy>O'Connor John</cp:lastModifiedBy>
  <dcterms:modified xsi:type="dcterms:W3CDTF">2012-09-20T12:18:59Z</dcterms:modified>
  <cp:revision>23</cp:revision>
  <dc:subject/>
  <dc:title>PowerPoint Presentation</dc:title>
</cp:coreProperties>
</file>